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83.png" ContentType="image/png"/>
  <Override PartName="/ppt/media/image58.jpeg" ContentType="image/jpeg"/>
  <Override PartName="/ppt/media/image57.jpeg" ContentType="image/jpeg"/>
  <Override PartName="/ppt/media/image55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0.jpeg" ContentType="image/jpeg"/>
  <Override PartName="/ppt/media/image38.jpeg" ContentType="image/jpeg"/>
  <Override PartName="/ppt/media/image97.jpeg" ContentType="image/jpeg"/>
  <Override PartName="/ppt/media/image37.jpeg" ContentType="image/jpeg"/>
  <Override PartName="/ppt/media/image20.png" ContentType="image/png"/>
  <Override PartName="/ppt/media/image114.gif" ContentType="image/gif"/>
  <Override PartName="/ppt/media/image35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7.jpeg" ContentType="image/jpeg"/>
  <Override PartName="/ppt/media/image106.jpeg" ContentType="image/jpeg"/>
  <Override PartName="/ppt/media/image43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98.jpeg" ContentType="image/jpeg"/>
  <Override PartName="/ppt/media/image8.jpeg" ContentType="image/jpeg"/>
  <Override PartName="/ppt/media/image52.jpeg" ContentType="image/jpeg"/>
  <Override PartName="/ppt/media/image13.png" ContentType="image/png"/>
  <Override PartName="/ppt/media/image1.png" ContentType="image/png"/>
  <Override PartName="/ppt/media/image29.jpeg" ContentType="image/jpeg"/>
  <Override PartName="/ppt/media/image88.jpeg" ContentType="image/jpeg"/>
  <Override PartName="/ppt/media/image108.jpeg" ContentType="image/jpeg"/>
  <Override PartName="/ppt/media/image7.gif" ContentType="image/gif"/>
  <Override PartName="/ppt/media/image26.jpeg" ContentType="image/jpeg"/>
  <Override PartName="/ppt/media/image105.jpeg" ContentType="image/jpeg"/>
  <Override PartName="/ppt/media/image54.jpeg" ContentType="image/jpeg"/>
  <Override PartName="/ppt/media/image9.jpeg" ContentType="image/jpeg"/>
  <Override PartName="/ppt/media/image50.jpeg" ContentType="image/jpeg"/>
  <Override PartName="/ppt/media/image34.png" ContentType="image/png"/>
  <Override PartName="/ppt/media/image74.jpeg" ContentType="image/jpeg"/>
  <Override PartName="/ppt/media/image4.png" ContentType="image/png"/>
  <Override PartName="/ppt/media/image16.png" ContentType="image/png"/>
  <Override PartName="/ppt/media/image81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92.jpeg" ContentType="image/jpeg"/>
  <Override PartName="/ppt/media/image112.jpeg" ContentType="image/jpeg"/>
  <Override PartName="/ppt/media/image2.png" ContentType="image/png"/>
  <Override PartName="/ppt/media/image72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90.jpeg" ContentType="image/jpeg"/>
  <Override PartName="/ppt/media/image60.png" ContentType="image/png"/>
  <Override PartName="/ppt/media/image110.jpeg" ContentType="image/jpeg"/>
  <Override PartName="/ppt/media/image93.jpeg" ContentType="image/jpeg"/>
  <Override PartName="/ppt/media/image65.jpeg" ContentType="image/jpeg"/>
  <Override PartName="/ppt/media/image68.jpeg" ContentType="image/jpeg"/>
  <Override PartName="/ppt/media/image69.png" ContentType="image/png"/>
  <Override PartName="/ppt/media/image99.jpeg" ContentType="image/jpeg"/>
  <Override PartName="/ppt/media/image66.jpeg" ContentType="image/jpeg"/>
  <Override PartName="/ppt/media/image91.jpeg" ContentType="image/jpeg"/>
  <Override PartName="/ppt/media/image70.png" ContentType="image/png"/>
  <Override PartName="/ppt/media/image111.jpeg" ContentType="image/jpeg"/>
  <Override PartName="/ppt/media/image94.jpeg" ContentType="image/jpeg"/>
  <Override PartName="/ppt/media/image71.jpeg" ContentType="image/jpeg"/>
  <Override PartName="/ppt/media/image75.jpeg" ContentType="image/jpeg"/>
  <Override PartName="/ppt/media/image76.jpeg" ContentType="image/jpeg"/>
  <Override PartName="/ppt/media/image113.wmf" ContentType="image/x-wmf"/>
  <Override PartName="/ppt/media/image103.jpeg" ContentType="image/jpeg"/>
  <Override PartName="/ppt/media/image96.jpeg" ContentType="image/jpeg"/>
  <Override PartName="/ppt/media/image67.png" ContentType="image/png"/>
  <Override PartName="/ppt/media/image95.jpeg" ContentType="image/jpeg"/>
  <Override PartName="/ppt/media/image87.gif" ContentType="image/gif"/>
  <Override PartName="/ppt/media/image109.jpeg" ContentType="image/jpeg"/>
  <Override PartName="/ppt/media/image86.gif" ContentType="image/gif"/>
  <Override PartName="/ppt/media/image100.jpeg" ContentType="image/jpeg"/>
  <Override PartName="/ppt/media/image80.jpeg" ContentType="image/jpeg"/>
  <Override PartName="/ppt/media/image77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101.jpeg" ContentType="image/jpeg"/>
  <Override PartName="/ppt/media/image14.jpeg" ContentType="image/jpeg"/>
  <Override PartName="/ppt/media/image41.jpeg" ContentType="image/jpeg"/>
  <Override PartName="/ppt/media/image115.gif" ContentType="image/gif"/>
  <Override PartName="/ppt/media/image89.jpeg" ContentType="image/jpeg"/>
  <Override PartName="/ppt/media/image21.png" ContentType="image/png"/>
  <Override PartName="/ppt/media/image19.png" ContentType="image/png"/>
  <Override PartName="/ppt/media/image79.jpeg" ContentType="image/jpeg"/>
  <Override PartName="/ppt/media/image62.jpeg" ContentType="image/jpeg"/>
  <Override PartName="/ppt/media/image51.jpeg" ContentType="image/jpeg"/>
  <Override PartName="/ppt/media/image36.jpeg" ContentType="image/jpeg"/>
  <Override PartName="/ppt/media/image32.jpeg" ContentType="image/jpeg"/>
  <Override PartName="/ppt/media/image49.jpeg" ContentType="image/jpeg"/>
  <Override PartName="/ppt/media/image85.gif" ContentType="image/gif"/>
  <Override PartName="/ppt/media/image24.png" ContentType="image/png"/>
  <Override PartName="/ppt/media/image73.jpeg" ContentType="image/jpeg"/>
  <Override PartName="/ppt/media/image11.jpeg" ContentType="image/jpeg"/>
  <Override PartName="/ppt/media/image28.jpeg" ContentType="image/jpeg"/>
  <Override PartName="/ppt/media/image107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289-3037-4D3E-87F3-0916D81F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46B-A28B-4BB9-9D4F-84DB0DC0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8B1-ABB5-4AE3-9188-D5350211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56B-5B84-4BB8-9B74-45161228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6AD-4963-435F-98B0-25EF38E8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CF96-88A1-4ED9-BDD8-1AE2ACE0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9B3-E13E-4FFB-84B5-A48C83C7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2D1-5A0C-4C58-9920-13869220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74C3-897F-4B20-AE58-B0104C30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E0B-3CE6-43B7-9F8C-3DE9D277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CD0-A3EE-47AB-B811-16FC9DFA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86C-2727-497A-938A-8642C893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7269-CB37-4CF5-85B4-C6BDC1BBD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image" Target="../media/image58.jpeg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12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image" Target="../media/image68.jpe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png"/><Relationship Id="rId5" Type="http://schemas.openxmlformats.org/officeDocument/2006/relationships/image" Target="../media/image82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image" Target="../media/image86.gif"/><Relationship Id="rId3" Type="http://schemas.openxmlformats.org/officeDocument/2006/relationships/image" Target="../media/image87.gi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image" Target="../media/image100.jpeg"/><Relationship Id="rId5" Type="http://schemas.openxmlformats.org/officeDocument/2006/relationships/image" Target="../media/image101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image" Target="../media/image105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image" Target="../media/image110.jpeg"/><Relationship Id="rId3" Type="http://schemas.openxmlformats.org/officeDocument/2006/relationships/image" Target="../media/image111.jpeg"/><Relationship Id="rId4" Type="http://schemas.openxmlformats.org/officeDocument/2006/relationships/image" Target="../media/image1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4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152280"/>
            <a:ext cx="7162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МБУК "Кулебакская районная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централизованная библиотечная система"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1295280"/>
            <a:ext cx="4876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Georgia"/>
              </a:rPr>
              <a:t>Центральная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Georgia"/>
              </a:rPr>
              <a:t>детская библиотек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429000" y="3505320"/>
            <a:ext cx="2438280" cy="13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лефон: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883176)5-66-02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-mail: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iss.biblioteka@yandex.ru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843280"/>
            <a:ext cx="3560760" cy="401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248520" y="2895480"/>
            <a:ext cx="28954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11480" y="1143000"/>
            <a:ext cx="4797360" cy="338148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  <p:sp>
        <p:nvSpPr>
          <p:cNvPr id="91" name=""/>
          <p:cNvSpPr txBox="1"/>
          <p:nvPr/>
        </p:nvSpPr>
        <p:spPr>
          <a:xfrm>
            <a:off x="228600" y="228600"/>
            <a:ext cx="8915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35 лет руководила ЦДБ Анна Ивановн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4648320"/>
            <a:ext cx="8772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Ее имя с любовью и благодарностью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помнят мамы и папы,бабушки и дедуш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сегодняшних читателей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05720" y="1143000"/>
            <a:ext cx="2438280" cy="3405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1828800"/>
            <a:ext cx="2286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2160" y="1677960"/>
            <a:ext cx="7237440" cy="495936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1219320" cy="5257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8001000" y="1600200"/>
            <a:ext cx="1143000" cy="5257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99960" y="0"/>
            <a:ext cx="87440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По инициативе А. И. Рублевской  в библиотеке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проводились интересные мероприятия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способствующие всестороннему развитию юного читател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89276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  <p:sp>
        <p:nvSpPr>
          <p:cNvPr id="102" name=""/>
          <p:cNvSpPr txBox="1"/>
          <p:nvPr/>
        </p:nvSpPr>
        <p:spPr>
          <a:xfrm>
            <a:off x="228600" y="0"/>
            <a:ext cx="8763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Это встречи с ветеранами войны и труда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литературные вечера и викторины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устные журналы и читательские конференци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01000" y="1752480"/>
            <a:ext cx="1143000" cy="5105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11430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86600" cy="4554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75080" y="437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6600" y="4876920"/>
            <a:ext cx="9077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А.И.Рублевская – активный организатор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и участник Недели детской книг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4495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924680" y="0"/>
            <a:ext cx="12193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663560"/>
            <a:ext cx="7619760" cy="5194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28600" y="304920"/>
            <a:ext cx="8686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Вечер-встреча с поэтом А.Коршуновым.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1143000" cy="5181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001000" y="1600200"/>
            <a:ext cx="1143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3760" y="1600200"/>
            <a:ext cx="458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2938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449568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Библиотека, которой руководила Рублевская, являла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дной из лучших в районе по содержанию и организации работы с детьми. ЦДБ постоянно организовывала прекрасные вечера, конкурсы. Ей было присвоено звание «Библиотека отличной работ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943600" y="3124080"/>
            <a:ext cx="2676600" cy="3733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343400" y="2590920"/>
            <a:ext cx="4800600" cy="1074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594320" cy="6019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426744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80880" y="0"/>
            <a:ext cx="4191120" cy="838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449568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105520" y="1219320"/>
            <a:ext cx="40384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Вечер трудовой слав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Поздравления в че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35-летия работ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в библиотек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А.И. Рублевской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900240" cy="5791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95680" y="533520"/>
            <a:ext cx="464832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 долгую плодотвор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аботу Рублев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еоднократно награжда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бластным Управл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ультуры и обкомом профсою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е имя занесено в Кни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чета отдела куль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орисполкома. Награжд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едалью«Ветеран труд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енинской юбилей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едалью, знач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инистерства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ССР «За отличную работ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5783400"/>
            <a:ext cx="4495680" cy="107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500040" cy="5639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962520" y="380880"/>
            <a:ext cx="500040" cy="5639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95680" cy="107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C12E017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2584440"/>
            <a:ext cx="6172200" cy="42735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40" name=""/>
          <p:cNvSpPr txBox="1"/>
          <p:nvPr/>
        </p:nvSpPr>
        <p:spPr>
          <a:xfrm>
            <a:off x="1600200" y="152280"/>
            <a:ext cx="57913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1968 год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Книжный фонд -30970 экз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Посещения – 30000 че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Книговыдача - 68889 экз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1752480" cy="4419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2438280"/>
            <a:ext cx="1752480" cy="4419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010280" y="2438280"/>
            <a:ext cx="213372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8600"/>
            <a:ext cx="9144000" cy="61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оличество читателей на 1.01.1970г – 3286 чел., на 1.01.1975г – 4200 че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ирост за 5 лет – 914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ниговыдача на 1.01.1970г – 68889 экз., на 1.01.1975г – 82500 экз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ирост за 5 лет - 13611 эк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осещаемость на 1.01.1970г.– 28158 чел., на 1.01.1975г. – 35000 че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ирост за 5 лет – 6842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нижный фонд на 1.01.1970г – 31500 экз., на 1.01.1975г – 34500 экз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ирост за 5 лет- 3000 эк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бращаемость книжного фон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 1.01.1970г – 2,0%, на 1.01.1975г – 2,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Читаемость на 1.01.1970г – 20,1%, на 1.01.1975г – 22,0 %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ирост за 5 лет-1,9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8000" y="5181480"/>
            <a:ext cx="211788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457200"/>
            <a:ext cx="8001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Georgia"/>
              </a:rPr>
              <a:t>Городская детская библиотека</a:t>
            </a:r>
            <a:endParaRPr b="1" i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3500000"/>
              </a:gra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Georgia"/>
              </a:rPr>
              <a:t>впервые открыла свои двери</a:t>
            </a:r>
            <a:endParaRPr b="1" i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3500000"/>
              </a:gra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Georgia"/>
              </a:rPr>
              <a:t>для детей 25 марта 1947г.</a:t>
            </a:r>
            <a:endParaRPr b="1" i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3500000"/>
              </a:gra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3500000"/>
              </a:gra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34340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9400" cy="4324320"/>
          </a:xfrm>
          <a:prstGeom prst="rect">
            <a:avLst/>
          </a:prstGeom>
          <a:ln w="57240">
            <a:solidFill>
              <a:srgbClr val="d73427"/>
            </a:solidFill>
            <a:miter/>
          </a:ln>
        </p:spPr>
      </p:pic>
      <p:sp>
        <p:nvSpPr>
          <p:cNvPr id="149" name=""/>
          <p:cNvSpPr txBox="1"/>
          <p:nvPr/>
        </p:nvSpPr>
        <p:spPr>
          <a:xfrm>
            <a:off x="152280" y="4419720"/>
            <a:ext cx="87440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Библиотека на ул. Труда. 1972 г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Коллектив библиотек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Л.Ф. Конышева, А.И. Рублевская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Л.В. Фролова, Е. Тугарев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1295280" cy="4648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CD5E0BA2" descr=""/>
          <p:cNvPicPr/>
          <p:nvPr/>
        </p:nvPicPr>
        <p:blipFill>
          <a:blip r:embed="rId1">
            <a:grayscl/>
            <a:lum contrast="12000"/>
          </a:blip>
          <a:stretch/>
        </p:blipFill>
        <p:spPr>
          <a:xfrm>
            <a:off x="1447920" y="2362320"/>
            <a:ext cx="6172200" cy="421308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  <p:sp>
        <p:nvSpPr>
          <p:cNvPr id="153" name=""/>
          <p:cNvSpPr txBox="1"/>
          <p:nvPr/>
        </p:nvSpPr>
        <p:spPr>
          <a:xfrm>
            <a:off x="380880" y="609480"/>
            <a:ext cx="8534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Беседа с читателем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при выдаче книг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238880" y="2133720"/>
            <a:ext cx="1905120" cy="4505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167652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651AAEB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495680" y="3952800"/>
            <a:ext cx="4648320" cy="290520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  <p:pic>
        <p:nvPicPr>
          <p:cNvPr id="158" name="1BD216BE" descr=""/>
          <p:cNvPicPr/>
          <p:nvPr/>
        </p:nvPicPr>
        <p:blipFill>
          <a:blip r:embed="rId2">
            <a:grayscl/>
            <a:lum contrast="18000"/>
          </a:blip>
          <a:stretch/>
        </p:blipFill>
        <p:spPr>
          <a:xfrm>
            <a:off x="0" y="1371600"/>
            <a:ext cx="4495680" cy="314964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  <p:sp>
        <p:nvSpPr>
          <p:cNvPr id="159" name=""/>
          <p:cNvSpPr txBox="1"/>
          <p:nvPr/>
        </p:nvSpPr>
        <p:spPr>
          <a:xfrm>
            <a:off x="0" y="0"/>
            <a:ext cx="9144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С каждым годом  библиотеку посещают все больше юных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читателей,  для которых проходит много интересных мероприятий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031840" cy="2209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5791320" y="1447920"/>
            <a:ext cx="21477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426C8CBA" descr=""/>
          <p:cNvPicPr/>
          <p:nvPr/>
        </p:nvPicPr>
        <p:blipFill>
          <a:blip r:embed="rId1">
            <a:grayscl/>
            <a:lum contrast="6000"/>
          </a:blip>
          <a:stretch/>
        </p:blipFill>
        <p:spPr>
          <a:xfrm>
            <a:off x="662040" y="228600"/>
            <a:ext cx="3063960" cy="4648320"/>
          </a:xfrm>
          <a:prstGeom prst="rect">
            <a:avLst/>
          </a:prstGeom>
          <a:ln w="0">
            <a:noFill/>
          </a:ln>
        </p:spPr>
      </p:pic>
      <p:pic>
        <p:nvPicPr>
          <p:cNvPr id="164" name="8BFCCD52" descr=""/>
          <p:cNvPicPr/>
          <p:nvPr/>
        </p:nvPicPr>
        <p:blipFill>
          <a:blip r:embed="rId2">
            <a:grayscl/>
            <a:lum contrast="36000"/>
          </a:blip>
          <a:stretch/>
        </p:blipFill>
        <p:spPr>
          <a:xfrm>
            <a:off x="5181480" y="1143000"/>
            <a:ext cx="3729240" cy="5181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28600" y="5257800"/>
            <a:ext cx="419112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У книжной выстав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зав. библиотек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проводит обзор книг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257800" y="152280"/>
            <a:ext cx="3486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Уголок В.И. Лени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724280" y="990720"/>
            <a:ext cx="627120" cy="5419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8534520" y="990720"/>
            <a:ext cx="609480" cy="5419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3581280" y="0"/>
            <a:ext cx="685800" cy="4876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878040" cy="4876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105520" y="6095880"/>
            <a:ext cx="3581280" cy="609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5181480" y="762120"/>
            <a:ext cx="358164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304920" y="4724280"/>
            <a:ext cx="3581280" cy="609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457200" y="0"/>
            <a:ext cx="35812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8BB66930" descr=""/>
          <p:cNvPicPr/>
          <p:nvPr/>
        </p:nvPicPr>
        <p:blipFill>
          <a:blip r:embed="rId1">
            <a:grayscl/>
            <a:lum contrast="30000"/>
          </a:blip>
          <a:stretch/>
        </p:blipFill>
        <p:spPr>
          <a:xfrm>
            <a:off x="228600" y="1447920"/>
            <a:ext cx="3894120" cy="5029200"/>
          </a:xfrm>
          <a:prstGeom prst="rect">
            <a:avLst/>
          </a:prstGeom>
          <a:ln w="0">
            <a:noFill/>
          </a:ln>
        </p:spPr>
      </p:pic>
      <p:pic>
        <p:nvPicPr>
          <p:cNvPr id="176" name="8A6EB190" descr=""/>
          <p:cNvPicPr/>
          <p:nvPr/>
        </p:nvPicPr>
        <p:blipFill>
          <a:blip r:embed="rId2">
            <a:grayscl/>
            <a:lum contrast="18000"/>
          </a:blip>
          <a:stretch/>
        </p:blipFill>
        <p:spPr>
          <a:xfrm>
            <a:off x="5257800" y="380880"/>
            <a:ext cx="3546360" cy="4876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5638680" y="5562720"/>
            <a:ext cx="3200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Юные читател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выбирают книги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304920"/>
            <a:ext cx="4876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Обзор выстав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«Дороги отцов начинались так...»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876920" y="380880"/>
            <a:ext cx="490320" cy="4886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8653320" y="380880"/>
            <a:ext cx="490680" cy="4886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4876920" y="5029200"/>
            <a:ext cx="4267080" cy="490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4876920" y="0"/>
            <a:ext cx="4267080" cy="490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0" y="1719360"/>
            <a:ext cx="490680" cy="4886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3776760" y="1719360"/>
            <a:ext cx="490320" cy="4886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0" y="6367320"/>
            <a:ext cx="4267080" cy="490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0" y="1338120"/>
            <a:ext cx="4267080" cy="4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427560" cy="5486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110120" cy="5410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228600" y="228600"/>
            <a:ext cx="8915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Наглядное  оформление библиотек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733920" y="1066680"/>
            <a:ext cx="1143000" cy="5496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0" y="1143000"/>
            <a:ext cx="533520" cy="54957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8686800" y="1066680"/>
            <a:ext cx="457200" cy="54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4333" t="26792" r="61042" b="33557"/>
          <a:stretch/>
        </p:blipFill>
        <p:spPr>
          <a:xfrm>
            <a:off x="4800600" y="3124080"/>
            <a:ext cx="4343400" cy="352908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rcRect l="56501" t="23739" r="2376" b="33877"/>
          <a:stretch/>
        </p:blipFill>
        <p:spPr>
          <a:xfrm>
            <a:off x="0" y="1447920"/>
            <a:ext cx="4419720" cy="323532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96" name=""/>
          <p:cNvSpPr txBox="1"/>
          <p:nvPr/>
        </p:nvSpPr>
        <p:spPr>
          <a:xfrm>
            <a:off x="457200" y="152280"/>
            <a:ext cx="83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Лучшие активисты библиотеки на отдых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618160" y="990720"/>
            <a:ext cx="1824120" cy="2057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1143000" y="4724280"/>
            <a:ext cx="18921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676520"/>
            <a:ext cx="5029200" cy="399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1973 году библиоте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етил наш земляк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ерой Советского Сою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ван Федорович Пиг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вершивш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ероический поступ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форсировании  Днеп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53160" cy="5562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993080" y="5562720"/>
            <a:ext cx="1150920" cy="1295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343400" y="0"/>
            <a:ext cx="11509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304920"/>
            <a:ext cx="350532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В 1977 году случился  пожар, уничтоживш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весь «золотой фонд» библиоте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Приходилось начинать с нуля: не было ни фонда, ни помещ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Но были жите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города, которые любили книгу и чт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По крупицам собирали  книжный фон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78CD4C0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038480" y="2209680"/>
            <a:ext cx="4876920" cy="3689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3962520" y="228600"/>
            <a:ext cx="4895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Сбор книг для открыт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детской библиоте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962520" y="1905120"/>
            <a:ext cx="4952880" cy="457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8001000" y="5472000"/>
            <a:ext cx="1143000" cy="1386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8686800" y="2057400"/>
            <a:ext cx="457200" cy="3505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3733920" y="2209680"/>
            <a:ext cx="457200" cy="3657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3809880" y="5638680"/>
            <a:ext cx="3505320" cy="457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7086600" y="5570640"/>
            <a:ext cx="1143000" cy="1287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6019920" y="57913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9"/>
          <a:stretch/>
        </p:blipFill>
        <p:spPr>
          <a:xfrm>
            <a:off x="5105520" y="5967360"/>
            <a:ext cx="99036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195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шлось и помещение - здание бывшей школы №5 - где библиот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ходится и по сей де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связи с централизацией библиотек города и района, с 1978 г. библиотека стала называться Центральной детской библиотекой Кулебакской ЦБ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DC5164DE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600200"/>
            <a:ext cx="5639040" cy="355428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  <p:sp>
        <p:nvSpPr>
          <p:cNvPr id="217" name=""/>
          <p:cNvSpPr txBox="1"/>
          <p:nvPr/>
        </p:nvSpPr>
        <p:spPr>
          <a:xfrm>
            <a:off x="1295280" y="5257800"/>
            <a:ext cx="6620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Ст. библиотекар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Н.А. Зубкова проводи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обзор книг  для уч-ся 8 к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315200" y="1600200"/>
            <a:ext cx="182880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1600200"/>
            <a:ext cx="18288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3424320" cy="5029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343400" y="2362320"/>
            <a:ext cx="4572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Georgia"/>
              </a:rPr>
              <a:t>Нина Ивановна Храмова 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Georgia"/>
              </a:rPr>
              <a:t>первый библиотекарь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73280" cy="5105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505320" y="762120"/>
            <a:ext cx="772920" cy="5105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6320" y="5475240"/>
            <a:ext cx="4343400" cy="773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0" y="380880"/>
            <a:ext cx="4343400" cy="7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371600" y="2209680"/>
            <a:ext cx="6248520" cy="431172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80880" y="228600"/>
            <a:ext cx="8436240" cy="20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1979 году, после длительного перерыва дет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иблиотека вновь встретила своих юных читателей. За пер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ни работы читателями  библиотеки стали 127 дошколь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 более 1200 учащихся. Книжный фонд состоял из 28 тыся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зличных экземпляров кни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238880" y="2133720"/>
            <a:ext cx="1905120" cy="45050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167652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5867280" cy="39607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225" name=""/>
          <p:cNvSpPr txBox="1"/>
          <p:nvPr/>
        </p:nvSpPr>
        <p:spPr>
          <a:xfrm>
            <a:off x="228600" y="152280"/>
            <a:ext cx="8686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В 1985 году  библиотекой руководи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Людмила Васильевна Фролов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394320" y="2209680"/>
            <a:ext cx="2749680" cy="46483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27496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2666880"/>
            <a:ext cx="54864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на закончила Самарск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академию культуры и искус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алина Юрьевна организовала при библиотеке куколь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«Теремок»и является одним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едущих акте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2007 году она осущест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вою давнюю мечту – на базе ЦДБ издается газета «Книгочей»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290760" cy="5029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3809880" y="685800"/>
            <a:ext cx="51818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С 1987 г. библиотеку возглавляет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Галина Юрьевна Барабанов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124080" y="914400"/>
            <a:ext cx="549360" cy="51055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511200" cy="5038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 flipH="1" rot="16226400">
            <a:off x="1598040" y="4420800"/>
            <a:ext cx="511200" cy="2797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 flipH="1" rot="16226400">
            <a:off x="1531800" y="-1001160"/>
            <a:ext cx="51120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651040" y="1407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8160" y="5181480"/>
            <a:ext cx="22748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.Ю. Бараб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ам. директор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боте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9440" y="2819520"/>
            <a:ext cx="19454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Н.Б. Козы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Библиограф ЦД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89440" y="2819520"/>
            <a:ext cx="21024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О.В. Соко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Библиотекарь ИК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81960" y="6276960"/>
            <a:ext cx="33552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.Г. Мали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Библиотекарь читального з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00" y="6276960"/>
            <a:ext cx="28767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.В. Мельца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Библиотекарь абоне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057400" y="22860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Коллектив ЦДБ в 2013г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80320" y="685800"/>
            <a:ext cx="1508040" cy="21337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1908000" cy="2590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629400" y="3657600"/>
            <a:ext cx="1832040" cy="2590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124080" y="91440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380880" y="609480"/>
            <a:ext cx="156060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304920"/>
            <a:ext cx="8991720" cy="26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разное время в ЦДБ работал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. В. Бобкова, Е.А. Калинина, Л.Ф.Конышева, Е.Тугар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.Н. Лашкова, Л.В.Сабурова, В.Б.Коженкова, Я.И. Гордее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.М.Благова, Е.Ф.Морозова, Т.Д.Цыбуцыни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.И. Блынская,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.Т. Каравайцева, В.А.Егорова, О.В. Мишенькина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.С.Серегина,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.А.Шик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105520" y="2971800"/>
            <a:ext cx="3657600" cy="2741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4038480" cy="2743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324480" y="5943600"/>
            <a:ext cx="1219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5943600"/>
            <a:ext cx="1219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99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4038480" y="2895480"/>
            <a:ext cx="497160" cy="28958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4724280" y="2895480"/>
            <a:ext cx="497160" cy="28958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0" y="2895480"/>
            <a:ext cx="496800" cy="28958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8647200" y="2895480"/>
            <a:ext cx="496800" cy="28958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380880" y="5638680"/>
            <a:ext cx="3733920" cy="304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8"/>
          <a:stretch/>
        </p:blipFill>
        <p:spPr>
          <a:xfrm>
            <a:off x="228600" y="2819520"/>
            <a:ext cx="4038480" cy="228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9"/>
          <a:stretch/>
        </p:blipFill>
        <p:spPr>
          <a:xfrm>
            <a:off x="4952880" y="2819520"/>
            <a:ext cx="4038840" cy="2286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0"/>
          <a:stretch/>
        </p:blipFill>
        <p:spPr>
          <a:xfrm>
            <a:off x="5029200" y="5562720"/>
            <a:ext cx="3733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152280"/>
            <a:ext cx="6858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Наши награды и дости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>
            <a:lum bright="-6000"/>
          </a:blip>
          <a:stretch/>
        </p:blipFill>
        <p:spPr>
          <a:xfrm rot="21090600">
            <a:off x="304560" y="1294920"/>
            <a:ext cx="1317600" cy="1828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886200" y="1143000"/>
            <a:ext cx="1306440" cy="1828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 rot="447000">
            <a:off x="7619760" y="1295280"/>
            <a:ext cx="1290600" cy="19051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>
            <a:lum bright="-6000"/>
          </a:blip>
          <a:stretch/>
        </p:blipFill>
        <p:spPr>
          <a:xfrm rot="21335400">
            <a:off x="2057040" y="3352680"/>
            <a:ext cx="1373040" cy="19814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 rot="292800">
            <a:off x="6019560" y="3276720"/>
            <a:ext cx="1425600" cy="19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>
            <a:lum bright="-24000"/>
          </a:blip>
          <a:stretch/>
        </p:blipFill>
        <p:spPr>
          <a:xfrm rot="21186600">
            <a:off x="2128680" y="1069560"/>
            <a:ext cx="1247760" cy="1828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>
            <a:lum bright="-30000"/>
          </a:blip>
          <a:stretch/>
        </p:blipFill>
        <p:spPr>
          <a:xfrm rot="452400">
            <a:off x="5714640" y="1143000"/>
            <a:ext cx="1276200" cy="18604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3813120" y="3429000"/>
            <a:ext cx="1978200" cy="13921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>
            <a:lum bright="-12000"/>
          </a:blip>
          <a:stretch/>
        </p:blipFill>
        <p:spPr>
          <a:xfrm rot="20944800">
            <a:off x="685800" y="4495320"/>
            <a:ext cx="1220760" cy="1752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0"/>
          <a:stretch/>
        </p:blipFill>
        <p:spPr>
          <a:xfrm rot="442200">
            <a:off x="7543800" y="4495680"/>
            <a:ext cx="1197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459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275" name=""/>
          <p:cNvSpPr txBox="1"/>
          <p:nvPr/>
        </p:nvSpPr>
        <p:spPr>
          <a:xfrm>
            <a:off x="990720" y="228600"/>
            <a:ext cx="7086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Издательская деятельность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7315200" y="4952880"/>
            <a:ext cx="1828800" cy="19051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0" y="4991040"/>
            <a:ext cx="19051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4343400" cy="325728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  <p:sp>
        <p:nvSpPr>
          <p:cNvPr id="279" name=""/>
          <p:cNvSpPr/>
          <p:nvPr/>
        </p:nvSpPr>
        <p:spPr>
          <a:xfrm>
            <a:off x="8640" y="228600"/>
            <a:ext cx="7945560" cy="206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азета «Книгочей» выпуск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Центральной детской библиотекой с 2007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Цель – осветить работу библиотек города и рай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ссказать о сотрудниках детских библиотек и их читателя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делать рекламу библиотеки  и чт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азета предназначена для библиотекарей и читателей библиоте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990720" cy="36576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657600" y="3048120"/>
            <a:ext cx="990720" cy="3657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1143000" y="3886200"/>
            <a:ext cx="1239840" cy="17524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7750080" y="0"/>
            <a:ext cx="1393920" cy="19810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0" y="3429000"/>
            <a:ext cx="1227240" cy="17524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7"/>
          <a:stretch/>
        </p:blipFill>
        <p:spPr>
          <a:xfrm>
            <a:off x="2286000" y="4419720"/>
            <a:ext cx="133200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800600" y="914400"/>
            <a:ext cx="3962520" cy="25732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3124080" y="3581280"/>
            <a:ext cx="2705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Абонемен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676520" y="0"/>
            <a:ext cx="5857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Структура библиотеки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477120" y="358128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228600" y="9144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152280" y="37339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3429000" y="4280040"/>
            <a:ext cx="2158920" cy="25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52280" y="5724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562720" y="417204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114800" y="228600"/>
            <a:ext cx="47242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Музейный угол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«В доме старинном – душ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наших предков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33520"/>
            <a:ext cx="8839080" cy="512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 библиотеку читатели записывались со своими книг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амые первые книги принес из своей личной библиоте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едседатель исполкома Георгий Махнё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 течение года стеллажи были заполнены не только за счет читателей. Часть книг была прислана Московским бибколлектором бесплатно, часть книг покупали в Коги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Библиотека была на хозрасч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еньги выделялись на зарплату, книги, хозяйственные расх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Нине Ивановне приходилось доставать дрова, топить печку, одной выполнять все 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 библиотеку ходили не только  дети, но и взрослые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678640"/>
            <a:ext cx="9144000" cy="11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114800" cy="24112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2666880" y="0"/>
            <a:ext cx="3810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Читальный за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52280" y="361944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4724280" y="914400"/>
            <a:ext cx="4038840" cy="2571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4724280" y="3733920"/>
            <a:ext cx="4216680" cy="29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25448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24559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3048120" y="152280"/>
            <a:ext cx="30477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Комна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сказ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0" y="462924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2971800" y="2362320"/>
            <a:ext cx="3124080" cy="23428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6075360" y="4556160"/>
            <a:ext cx="3068640" cy="23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648320" y="3371760"/>
            <a:ext cx="4190760" cy="31435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876920" y="304920"/>
            <a:ext cx="3838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Информационно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компьютерны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цент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«Галактика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32920" y="1143000"/>
            <a:ext cx="358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ограмма по эк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«Судьба земли у нас в рук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6480" y="1828800"/>
            <a:ext cx="522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ограмма ИК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«В компьютере – новости, в книге – жизнь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67080" y="2971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20680" y="2514600"/>
            <a:ext cx="416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ограмма развивающего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«Читаем ты и я, читает вся Зем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91720" y="3352680"/>
            <a:ext cx="3359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оект по летним чтения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не стен библиот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«Читающий двор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600" y="152280"/>
            <a:ext cx="862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Программы и проекты ЦДБ 2013 год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4724280" cy="28972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781680" y="914400"/>
            <a:ext cx="2143080" cy="16765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248520" y="4343400"/>
            <a:ext cx="2286000" cy="22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3124080" y="1752480"/>
            <a:ext cx="3017880" cy="22622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95880" y="380880"/>
            <a:ext cx="2789280" cy="20908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6172200" y="3067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152280" y="380880"/>
            <a:ext cx="2895840" cy="21718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2057400" y="5791320"/>
            <a:ext cx="4924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Наши мероприят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2971800" cy="26211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2743200" cy="22701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5638680" y="685800"/>
            <a:ext cx="3505320" cy="2270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2209680" y="0"/>
            <a:ext cx="4410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Кукольный театр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«Теремок»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3276720" cy="22575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2971800" y="2892600"/>
            <a:ext cx="2895480" cy="19699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5867280" y="762120"/>
            <a:ext cx="3276720" cy="22064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0" y="4925880"/>
            <a:ext cx="3505320" cy="19321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5"/>
          <a:stretch/>
        </p:blipFill>
        <p:spPr>
          <a:xfrm>
            <a:off x="5867280" y="4565520"/>
            <a:ext cx="3276720" cy="22924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3124080" y="228600"/>
            <a:ext cx="28958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Нед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детско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кни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21128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417204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5257800" y="4097160"/>
            <a:ext cx="3886200" cy="27608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5867280" y="0"/>
            <a:ext cx="3276720" cy="24559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1828800" y="1447920"/>
            <a:ext cx="49528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Писатель из Москвы –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Сергей Белорусец -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гость Центральной детской библиотек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5181480" y="1600200"/>
            <a:ext cx="3726000" cy="49687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114800" y="304920"/>
            <a:ext cx="4724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Летние чтения в ЦД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915240" y="0"/>
            <a:ext cx="2228760" cy="3657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2567160" cy="28954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809880" cy="28558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3276720" y="3886200"/>
            <a:ext cx="3733560" cy="2798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1371600" y="2895480"/>
            <a:ext cx="5334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Проект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«Читающий дворик»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86332_foto1_03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5835600" cy="376056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  <p:sp>
        <p:nvSpPr>
          <p:cNvPr id="62" name=""/>
          <p:cNvSpPr txBox="1"/>
          <p:nvPr/>
        </p:nvSpPr>
        <p:spPr>
          <a:xfrm>
            <a:off x="0" y="0"/>
            <a:ext cx="90248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Georgia"/>
              </a:rPr>
              <a:t>Библиотека находилась в здании Кулебакского гороно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Georgia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Georgia"/>
              </a:rPr>
              <a:t>Это была комната размером не более 20 кв.м.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Georgia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Georgia"/>
              </a:rPr>
              <a:t>разделенная деревянной перегородкой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Georgia"/>
              </a:rPr>
              <a:t>на абонемент и читальный зал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58650" r="0" b="0"/>
          <a:stretch/>
        </p:blipFill>
        <p:spPr>
          <a:xfrm>
            <a:off x="0" y="2133720"/>
            <a:ext cx="1752480" cy="4724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0" t="0" r="0" b="49602"/>
          <a:stretch/>
        </p:blipFill>
        <p:spPr>
          <a:xfrm>
            <a:off x="7467480" y="1981080"/>
            <a:ext cx="16765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9067680" cy="49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-360" y="1676520"/>
            <a:ext cx="909108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арейшая детская библиотека города и райо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жегодно обслуживает 2800 читател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личество посещений - более 13000 чел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ниговыдача – 37500 эк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 год проводит более 200 увлекательных мероприят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йствуют клубы по интересам для детей 1-4 кл.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Буковка», «Страна Читалия», Школа безопас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Детям знать положено», «Компания», Школа ю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колога «Муравьишк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304920"/>
            <a:ext cx="8381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Центральная детская библиотека сегодн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228600"/>
            <a:ext cx="8076960" cy="32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Читателям большим и маленьки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альчикам и девочкам хотим мы рассказ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Что детскую библиотеку всем надо посещ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Живите дружно, радостно, храните Ваше счаст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 в нашу библиотеку заглядывайте чащ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ш адрес: г.Кулеба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ижегородской обла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л.Футбольная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590920" y="3352680"/>
            <a:ext cx="4190760" cy="25783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968560" y="6172200"/>
            <a:ext cx="3335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http://vk.com/id2122538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00680" y="355680"/>
            <a:ext cx="854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оставитель: Ольга Сергеевна Серегина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етодист ЦБС по работе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едактор: Галина Юрьевна Барабанова – зав. ЦД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омпьютерный дизайн: Ольга Васильевна Соколов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библиотекарь ИКЦ «ГАЛАКТ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http://vipgif.ru/_ph/19/2/196552751.gif"/>
          <p:cNvPicPr/>
          <p:nvPr/>
        </p:nvPicPr>
        <p:blipFill>
          <a:blip r:embed="rId1"/>
          <a:stretch/>
        </p:blipFill>
        <p:spPr>
          <a:xfrm>
            <a:off x="3352680" y="3200400"/>
            <a:ext cx="2352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237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егистрация книг велась в тетради без учетных номе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ак начинал создаваться книжный фон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 книжном фонде имелись редкие книги: несколько томов  академического издания А.С.Пушкина, прекрасно иллюстрированные биологические атласы, что было редкостью в послевоенные год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2405160"/>
            <a:ext cx="7086600" cy="43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26F0920E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066680" y="2236680"/>
            <a:ext cx="6858000" cy="462132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  <p:sp>
        <p:nvSpPr>
          <p:cNvPr id="70" name=""/>
          <p:cNvSpPr txBox="1"/>
          <p:nvPr/>
        </p:nvSpPr>
        <p:spPr>
          <a:xfrm>
            <a:off x="228600" y="228600"/>
            <a:ext cx="8686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В 1949 году библиотека переехала на улицу Труда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в помещение бывшего райкома комсомол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428840" cy="4724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715160" y="2133720"/>
            <a:ext cx="14288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343400"/>
            <a:ext cx="450072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скоре открыли еще две штатные   единицы – библиотекарь и техни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FADB93A4" descr=""/>
          <p:cNvPicPr/>
          <p:nvPr/>
        </p:nvPicPr>
        <p:blipFill>
          <a:blip r:embed="rId1">
            <a:grayscl/>
            <a:lum contrast="12000"/>
          </a:blip>
          <a:stretch/>
        </p:blipFill>
        <p:spPr>
          <a:xfrm>
            <a:off x="4876920" y="533520"/>
            <a:ext cx="394488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28600" y="380880"/>
            <a:ext cx="44197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Читателей в то врем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насчитывалось не более 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550 человек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819520"/>
            <a:ext cx="3905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Книжный фон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составлял 2285 книг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0" y="6019920"/>
            <a:ext cx="4114800" cy="838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24280" y="0"/>
            <a:ext cx="3962520" cy="838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49568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861048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830680 w 9144000"/>
              <a:gd name="textAreaRight" fmla="*/ 6313320 w 9144000"/>
              <a:gd name="textAreaTop" fmla="*/ 2122920 h 6858000"/>
              <a:gd name="textAreaBottom" fmla="*/ 473508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005" y="11307"/>
                </a:lnTo>
                <a:lnTo>
                  <a:pt x="198" y="12861"/>
                </a:lnTo>
                <a:lnTo>
                  <a:pt x="5208" y="12403"/>
                </a:lnTo>
                <a:lnTo>
                  <a:pt x="786" y="14846"/>
                </a:lnTo>
                <a:lnTo>
                  <a:pt x="5664" y="13531"/>
                </a:lnTo>
                <a:lnTo>
                  <a:pt x="1742" y="16682"/>
                </a:lnTo>
                <a:lnTo>
                  <a:pt x="6279" y="14461"/>
                </a:lnTo>
                <a:lnTo>
                  <a:pt x="3163" y="18437"/>
                </a:lnTo>
                <a:lnTo>
                  <a:pt x="7061" y="15256"/>
                </a:lnTo>
                <a:lnTo>
                  <a:pt x="4761" y="19754"/>
                </a:lnTo>
                <a:lnTo>
                  <a:pt x="7980" y="15888"/>
                </a:lnTo>
                <a:lnTo>
                  <a:pt x="6580" y="20741"/>
                </a:lnTo>
                <a:lnTo>
                  <a:pt x="9099" y="16363"/>
                </a:lnTo>
                <a:lnTo>
                  <a:pt x="8555" y="21364"/>
                </a:lnTo>
                <a:lnTo>
                  <a:pt x="10192" y="16585"/>
                </a:lnTo>
                <a:lnTo>
                  <a:pt x="10800" y="21600"/>
                </a:lnTo>
                <a:lnTo>
                  <a:pt x="11307" y="16595"/>
                </a:lnTo>
                <a:lnTo>
                  <a:pt x="12861" y="21402"/>
                </a:lnTo>
                <a:lnTo>
                  <a:pt x="12403" y="16392"/>
                </a:lnTo>
                <a:lnTo>
                  <a:pt x="14846" y="20814"/>
                </a:lnTo>
                <a:lnTo>
                  <a:pt x="13531" y="15936"/>
                </a:lnTo>
                <a:lnTo>
                  <a:pt x="16682" y="19858"/>
                </a:lnTo>
                <a:lnTo>
                  <a:pt x="14461" y="15321"/>
                </a:lnTo>
                <a:lnTo>
                  <a:pt x="18437" y="18437"/>
                </a:lnTo>
                <a:lnTo>
                  <a:pt x="15256" y="14539"/>
                </a:lnTo>
                <a:lnTo>
                  <a:pt x="19754" y="16839"/>
                </a:lnTo>
                <a:lnTo>
                  <a:pt x="15888" y="13620"/>
                </a:lnTo>
                <a:lnTo>
                  <a:pt x="20741" y="15020"/>
                </a:lnTo>
                <a:lnTo>
                  <a:pt x="16363" y="12501"/>
                </a:lnTo>
                <a:lnTo>
                  <a:pt x="21364" y="13045"/>
                </a:lnTo>
                <a:lnTo>
                  <a:pt x="16585" y="11408"/>
                </a:lnTo>
                <a:lnTo>
                  <a:pt x="21600" y="10800"/>
                </a:lnTo>
                <a:lnTo>
                  <a:pt x="16595" y="10293"/>
                </a:lnTo>
                <a:lnTo>
                  <a:pt x="21402" y="8739"/>
                </a:lnTo>
                <a:lnTo>
                  <a:pt x="16392" y="9197"/>
                </a:lnTo>
                <a:lnTo>
                  <a:pt x="20814" y="6754"/>
                </a:lnTo>
                <a:lnTo>
                  <a:pt x="15936" y="8069"/>
                </a:lnTo>
                <a:lnTo>
                  <a:pt x="19858" y="4918"/>
                </a:lnTo>
                <a:lnTo>
                  <a:pt x="15321" y="7139"/>
                </a:lnTo>
                <a:lnTo>
                  <a:pt x="18437" y="3163"/>
                </a:lnTo>
                <a:lnTo>
                  <a:pt x="14539" y="6344"/>
                </a:lnTo>
                <a:lnTo>
                  <a:pt x="16839" y="1846"/>
                </a:lnTo>
                <a:lnTo>
                  <a:pt x="13620" y="5712"/>
                </a:lnTo>
                <a:lnTo>
                  <a:pt x="15020" y="859"/>
                </a:lnTo>
                <a:lnTo>
                  <a:pt x="12501" y="5237"/>
                </a:lnTo>
                <a:lnTo>
                  <a:pt x="13045" y="236"/>
                </a:lnTo>
                <a:lnTo>
                  <a:pt x="11408" y="5015"/>
                </a:lnTo>
                <a:lnTo>
                  <a:pt x="10800" y="0"/>
                </a:lnTo>
                <a:lnTo>
                  <a:pt x="10293" y="5005"/>
                </a:lnTo>
                <a:lnTo>
                  <a:pt x="8739" y="198"/>
                </a:lnTo>
                <a:lnTo>
                  <a:pt x="9197" y="5208"/>
                </a:lnTo>
                <a:lnTo>
                  <a:pt x="6754" y="786"/>
                </a:lnTo>
                <a:lnTo>
                  <a:pt x="8069" y="5664"/>
                </a:lnTo>
                <a:lnTo>
                  <a:pt x="4918" y="1742"/>
                </a:lnTo>
                <a:lnTo>
                  <a:pt x="7139" y="6279"/>
                </a:lnTo>
                <a:lnTo>
                  <a:pt x="3163" y="3163"/>
                </a:lnTo>
                <a:lnTo>
                  <a:pt x="6344" y="7061"/>
                </a:lnTo>
                <a:lnTo>
                  <a:pt x="1846" y="4761"/>
                </a:lnTo>
                <a:lnTo>
                  <a:pt x="5712" y="7980"/>
                </a:lnTo>
                <a:lnTo>
                  <a:pt x="859" y="6580"/>
                </a:lnTo>
                <a:lnTo>
                  <a:pt x="5237" y="9099"/>
                </a:lnTo>
                <a:lnTo>
                  <a:pt x="236" y="8555"/>
                </a:lnTo>
                <a:lnTo>
                  <a:pt x="5015" y="1019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ecff">
                  <a:alpha val="30196"/>
                </a:srgbClr>
              </a:gs>
              <a:gs pos="100000">
                <a:srgbClr val="57d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1371600"/>
            <a:ext cx="40384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В 1950 г. заведующ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детской библиотеко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 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назначают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Анну Ивановну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Рублевскую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599000" y="609480"/>
            <a:ext cx="4354560" cy="5486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5943600"/>
            <a:ext cx="411480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724280" y="0"/>
            <a:ext cx="396252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49568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861048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438</cp:lastModifiedBy>
  <dcterms:modified xsi:type="dcterms:W3CDTF">2014-01-24T11:09:07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